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BFF-3DD8-4CA3-A15A-25EF06A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C9C-81D5-474A-B4F9-1561D7E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DE0-5984-4A74-A371-9487B53C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8E7-230C-4F7F-A79B-65CC9D58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020-ECD3-4B18-8BC8-A46899D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CC5-C31D-4ABA-9528-DA1A21F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AFB-DDC9-4BA2-8FBE-FF9B518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A4-A564-4549-99A0-95B27AA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06B-96F3-47E1-A144-6FC9C8E7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B37-E6F8-4ACA-9ED0-24715DA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D3A-5005-4A8A-BEB5-502FA73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9E5-2109-493F-85C7-4DC8591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F14-A985-489E-9838-E1A2CEC7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52280" y="4572000"/>
            <a:ext cx="121932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2280" y="1600200"/>
            <a:ext cx="121932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52280" y="3581280"/>
            <a:ext cx="121932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52280" y="5562720"/>
            <a:ext cx="121932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152280" y="2590920"/>
            <a:ext cx="121932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371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0574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7432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290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1148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800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4864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722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580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5438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229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371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0574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432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290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1148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800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4864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580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8229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371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0574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432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4290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1148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800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4864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722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8580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5438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229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371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0574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7432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290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1148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800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864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8580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5438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229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0574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432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4290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48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800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4864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722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580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438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29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5"/>
          <p:cNvSpPr/>
          <p:nvPr/>
        </p:nvSpPr>
        <p:spPr>
          <a:xfrm>
            <a:off x="1752480" y="152280"/>
            <a:ext cx="5639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acetra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1 square for every correct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42:42Z</dcterms:created>
  <dc:creator>Connie Campbell</dc:creator>
  <dc:description/>
  <dc:language>en-US</dc:language>
  <cp:lastModifiedBy>Caroline Roth</cp:lastModifiedBy>
  <cp:lastPrinted>2011-04-11T04:06:43Z</cp:lastPrinted>
  <dcterms:modified xsi:type="dcterms:W3CDTF">2011-04-11T04:07:28Z</dcterms:modified>
  <cp:revision>20</cp:revision>
  <dc:subject/>
  <dc:title>Slide 1</dc:title>
</cp:coreProperties>
</file>